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A9E8-C527-4DCF-85A5-37CD26913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Compagnie Universelle du Canal Interocea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11 miles out of 50 d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pent over $287 million as opposed to original quote of $132 million in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 bought rights to French canal property and equipment for no more than $40 m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77CF-9AD9-4516-B21A-B6ED5FE6E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FD3-8288-4314-A62F-BB10096BD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umbia wanted the U.S. to pay a fee because the Isthmus of Panama was located in Columb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S. aided the rebels to avoid paying fee to Columb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764-E05E-4127-82DE-DAF2D4AA8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s of labor, 39 miles 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D2E-E935-4FA7-B976-8D842E93D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helmingly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FD8-0763-4AF8-8197-0843EEAE0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9FC-784E-440B-AF9C-475D07EA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BA8-73D7-4D27-A461-22BA7C95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7CF-A17B-44DA-BD9A-A1F2F4B4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C6F-21C4-4D9B-BC52-80A8EDE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F26-DF8C-4718-8CE7-84B9C04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1218-7F00-409B-AE96-539B303E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68B4-DDF5-4AD3-AAB6-5D87C892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00AD-5399-49E3-96A2-E8F1391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0A81-7F9B-474C-9B9D-B4A87677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53A8-BE89-48BF-B755-1992E15C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BD62-2716-4278-A2C8-79BF472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0A1-85DA-4DBE-9A0D-F5DEC3D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27FB-8D06-450B-91BD-09DCF97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B511-57C9-4099-B7C0-04EF18C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A168-FFCA-4FE5-8D54-6EFDEAC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CBA0-754E-48FF-B184-E88F9B0A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B3B-024C-4A2C-892B-AD40EED2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1982-B162-410A-91CC-1FF7B649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70E9-99F8-4921-B716-A5BDEC80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64A3-699E-49B4-9D99-288F6F44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5012-ACAE-41C5-BB47-0D0906A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A36E-A064-4BC1-9166-6CC8F09E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660-C0C1-4038-94E8-47C81173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0937-D0E2-4BC4-99AA-DA4F90D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831A-92EB-45CC-BA2F-83E8B68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F433-1AB8-42F3-BF80-4D14295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87BD-30D9-4B90-AB3A-D9A0EF6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ADB1-CC03-4AD6-A0D1-C038CA67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71F5-5BAA-45DF-8B1A-E510C8C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E11F-8B16-4E9F-A53B-4588A076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BF49-30AE-4F72-B777-150D28A5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4A9A-E94C-4FB0-B640-CA161EDB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BEB0-075D-43F4-88A3-B5D7AEA2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92F-E034-426A-AECB-841B8B6A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E18F-3617-47BD-905B-5F0D96B8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2D755-9E08-4E8F-ADDF-D4AB438D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504A-3753-4B3B-9411-D1329DE6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69EF-1CE6-465A-BA68-9E8C60F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7684-C90B-41E5-B805-DA38C33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695A-9F1D-4681-8EF4-FEAB122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5097-AF17-4A99-BDBA-FCDC286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E642-C8BA-45D2-B894-F465ACC9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4D7D-6714-444F-A1D4-4DD72B64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9C86-F215-43C1-97C9-1B91F213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6D4-0C3D-4371-A27F-E25913A6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D3A7-8294-40BE-A287-F9909AE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CE0C-71C9-4A56-BB2B-F0494F5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5876-5FA4-4EAA-AFB8-07484D16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AB62-25CD-4582-BB46-6D3E2B07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355B-FE8F-48C9-9847-1405A4B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3A17-5A62-4169-9218-05C29E3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0122-75F0-4109-AC70-516A494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56EE-7940-45EE-9A7C-8DAF7662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7DF3-EDE2-4765-A03A-BD765E4F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69DFA-8A50-4D1B-A78B-E7617220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80A-4EF6-4783-80B8-8F45992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788D-6B23-43BF-A8E5-B29FE48C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B382-4C4F-40D7-90CE-079FF584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90CB3-3195-40D7-8608-89189ED2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B41D-6B57-4ED1-AC63-DEB4980D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190E-6934-4967-95F3-FBEF12B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4979-A22B-4B94-8C63-D15A13C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9181-BC6E-432C-8D87-0D78328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701B-86D0-4632-ACA9-DED9EB3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1912-F3C6-4498-8A81-19900D8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F072-60F9-4385-9303-918CEE0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DC9-A880-4369-925D-80BFFD4F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C96F-0CE7-4FD0-ADD1-694FE8D3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6194-7F93-4D0B-96AC-B732912F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5ED8-2BD8-446B-90F2-47718097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5FFD-3800-4F7D-A8C2-6F53DD3A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B78A-E5A7-446F-B17B-8CB88468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FAF8-44A2-4BAF-865C-02079BC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5307-C2DD-4808-8E13-89458A1F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AB54-BFE0-4039-A26B-A8805909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094BA-DCD1-49C7-9496-AE0B0620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9BFE-46B1-4602-9EE0-17D9735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F73-F636-4A74-8B03-0D6711B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AAE9B-84F3-4001-9233-C88B613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CF5B-28CE-436F-A182-C701393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8821-EE28-4F6A-A05B-931B2E05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7907-952E-4427-BB33-86922ACB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A1808-2222-4B6D-804F-07478B6A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0A55-3A8B-483E-950B-26171D34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1E13-2D2D-447C-B878-6E28CCA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A050-6479-40FD-9132-9A67A30F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35D5F-C12F-4691-B612-71DA7FAE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6670-82B8-4A39-80B6-5922308F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9A6-78A7-4334-A864-78AFBA2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2DD3A-19A7-4177-A574-C1C4C83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E569-6F82-41B5-98C6-E924735E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2BBEC-45B2-47A8-A47F-32B86CE1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B4DB2-914B-4816-B27D-98261AB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1086C-B4AE-4281-B01F-ACD5713E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910B-E041-413B-8B24-CE1EB6F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3831B-B3C8-4F4E-8BC3-CF26F70C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008-EB6A-43F0-BF31-066D1E1DB8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47D5-DB24-4843-8DC2-4909BC8CE0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7CA-7D3D-401F-8297-405748175D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4A0-50F0-4FA3-BF38-1B8073DF30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A142-60CE-4D18-A864-553AFCFE50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A95-68F0-4D2E-A605-E58E283BE8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39C2-583F-4FA7-B3EC-BC1A37FF0F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951-3696-4DD9-8086-576A90C5F6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785000" cy="1494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uring his presidency, what was considered to be Teddy Roosevelt's greatest achievement? Was it a positive or negative change for the U.S.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457200" y="56386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ike Beatty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ddy considered as his greatest achiev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an in 1881 by Ferdinand de Lesse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ed unfinished in 1888 due to thousands of deaths by dise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ce President, TR bought rights to proper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.S. Navy travel shorter d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rong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re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eaper and quicker for shipping goo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umbia demanded f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bels form Republic of Pan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.S. aid reb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.S. pays $10 million to Pan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ights to the ca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5-mile-wide zone of land on either side of the ca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ease: Mosquito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r. William Gorgas plan = very successfu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$128 million sp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 opposed to $287 million spent by French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horter route for ship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Cheap and swift travel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U.S. Navy – strengthened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aved Navy mone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Provided Job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Creation of Panam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upported Panama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1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ncome taxe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1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ecurity fee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1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Educational insuranc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till in operation toda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ath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oney spent/los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44:59Z</dcterms:created>
  <dc:creator>Mom &amp; Dad's Office</dc:creator>
  <dc:description/>
  <dc:language>en-US</dc:language>
  <cp:lastModifiedBy>Mom &amp; Dad's Office</cp:lastModifiedBy>
  <dcterms:modified xsi:type="dcterms:W3CDTF">2008-06-04T01:57:21Z</dcterms:modified>
  <cp:revision>8</cp:revision>
  <dc:subject/>
  <dc:title>Slide 1</dc:title>
</cp:coreProperties>
</file>